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70B5-07C6-4DD0-92F3-54A1CD4D7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719F-3450-40A4-AE4C-9AA3284B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3549-8910-4465-938D-DB466769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F7A7-9842-465F-B29E-DD43989E7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35D5-4C47-44B2-B33B-04D25F57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128C-3B24-4994-91B6-66200F09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0B0B-3443-4466-B564-F5249740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5E1C-8279-432B-B75B-384820DD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EE33-2600-46FE-849F-FD52635E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F8BC-F187-4643-AFA3-96B0CD9A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78A2-1CB2-4EF5-8AD1-0F562BF6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DA07-412C-4D9E-BE1D-80BB887B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EBE1-C06F-4920-807F-7A80C5DC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F630-9958-4D73-A7DB-BADED325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7E54-C53E-41FC-B344-7828D857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3981-DB59-442D-B07C-99FA7369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AAF0-40C1-4F10-8F7E-FEAA433D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7FBF-CD58-4593-93D4-525D7E6F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DD79-6A36-4B95-BF73-8F62C69E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CCBC-070C-4979-9C66-426E2311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BC68-C742-431E-93AB-9000C6CB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0DAF-9EAE-408E-813F-DAFD4F7F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5766-5408-41E1-9482-A93BF8FC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4331-E5F1-407B-B330-5D17FC4B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A8A1-B811-4189-B8E2-7C60C84ABA24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AA72-41AA-4594-8A26-A51905C286A5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Course:</a:t>
            </a:r>
            <a:br>
              <a:rPr sz="5000"/>
            </a:b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Fundamentals of Research</a:t>
            </a:r>
            <a:endParaRPr b="1" lang="en-US" sz="5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rt I: The Nature of Research: Framing a Research Ques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orkshop 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research question should be …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S </a:t>
            </a:r>
            <a:r>
              <a:rPr b="0" lang="en-US" sz="6000" spc="-1" strike="noStrike" u="sng">
                <a:solidFill>
                  <a:srgbClr val="999900"/>
                </a:solidFill>
                <a:uFillTx/>
                <a:latin typeface="Arial"/>
              </a:rPr>
              <a:t>M </a:t>
            </a:r>
            <a:r>
              <a:rPr b="0" lang="en-US" sz="6000" spc="-1" strike="noStrike" u="sng">
                <a:solidFill>
                  <a:srgbClr val="00b0f0"/>
                </a:solidFill>
                <a:uFillTx/>
                <a:latin typeface="Arial"/>
              </a:rPr>
              <a:t>A </a:t>
            </a:r>
            <a:r>
              <a:rPr b="0" lang="en-US" sz="6000" spc="-1" strike="noStrike" u="sng">
                <a:solidFill>
                  <a:srgbClr val="facad1"/>
                </a:solidFill>
                <a:uFillTx/>
                <a:latin typeface="Arial"/>
              </a:rPr>
              <a:t>R </a:t>
            </a:r>
            <a:r>
              <a:rPr b="0" lang="en-US" sz="6000" spc="-1" strike="noStrike" u="sng">
                <a:solidFill>
                  <a:srgbClr val="850aff"/>
                </a:solidFill>
                <a:uFillTx/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pecif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9900"/>
                </a:solidFill>
                <a:latin typeface="Arial"/>
              </a:rPr>
              <a:t>Measur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Arial"/>
              </a:rPr>
              <a:t>Applic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cad1"/>
                </a:solidFill>
                <a:latin typeface="Arial"/>
              </a:rPr>
              <a:t>Reach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50aff"/>
                </a:solidFill>
                <a:latin typeface="Arial"/>
              </a:rPr>
              <a:t>Time-rela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raming a research ques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ame your research ques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n-US" sz="3900" spc="-1" strike="noStrike">
                <a:solidFill>
                  <a:srgbClr val="ff0066"/>
                </a:solidFill>
                <a:latin typeface="Arial"/>
              </a:rPr>
              <a:t>From research question to hypothesi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esearcher may formulate an hypothesis as answer to his/her research ques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hypothesis should b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ad5cff"/>
                </a:solidFill>
                <a:latin typeface="Arial"/>
              </a:rPr>
              <a:t>a) reason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cad1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facad1"/>
                </a:solidFill>
                <a:latin typeface="Arial"/>
              </a:rPr>
              <a:t>b) prob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c) research question focu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ink how to frame a research ques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s work in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answer to the questions/statement in the steps 1,2 and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swer question on page 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assessment sheet on page 11  to assess your research ques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ed Rectangle 4"/>
          <p:cNvSpPr/>
          <p:nvPr/>
        </p:nvSpPr>
        <p:spPr>
          <a:xfrm>
            <a:off x="785880" y="4202280"/>
            <a:ext cx="496728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106560" bIns="106560" anchor="ctr">
            <a:no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ulate a research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Diagram 6" descr=""/>
          <p:cNvPicPr/>
          <p:nvPr/>
        </p:nvPicPr>
        <p:blipFill>
          <a:blip r:embed="rId1"/>
          <a:stretch/>
        </p:blipFill>
        <p:spPr>
          <a:xfrm>
            <a:off x="706320" y="3206880"/>
            <a:ext cx="8016840" cy="33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0066"/>
                </a:solidFill>
                <a:latin typeface="Arial"/>
              </a:rPr>
              <a:t>Thank you</a:t>
            </a:r>
            <a:endParaRPr b="1" lang="en-US" sz="6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did we learn till now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a research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we research, evaluate sources and use t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we use other people’s research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ortance of ethics in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ff"/>
                </a:solidFill>
                <a:latin typeface="Arial"/>
              </a:rPr>
              <a:t>Definition of research top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66ff"/>
                </a:solidFill>
                <a:latin typeface="Arial"/>
              </a:rPr>
              <a:t>Definition of research ques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ff"/>
                </a:solidFill>
                <a:latin typeface="Arial"/>
              </a:rPr>
              <a:t>Definition of research hypothe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Arial"/>
              </a:rPr>
              <a:t>Importance of research ques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99"/>
                </a:solidFill>
                <a:latin typeface="Arial"/>
              </a:rPr>
              <a:t>From topic to research ques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3399"/>
                </a:solidFill>
                <a:latin typeface="Arial"/>
              </a:rPr>
              <a:t>Good vs. bad research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From research question to hypothe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99ccff"/>
                </a:solidFill>
                <a:latin typeface="Arial"/>
              </a:rPr>
              <a:t>What is a research topic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iss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ub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conce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ometh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e want to find out, discover have more information about…. But to search abou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omething </a:t>
            </a:r>
            <a:r>
              <a:rPr b="0" lang="en-US" sz="3000" spc="-1" strike="noStrike">
                <a:solidFill>
                  <a:srgbClr val="0b1b0e"/>
                </a:solidFill>
                <a:latin typeface="Arial"/>
              </a:rPr>
              <a:t>is too broad so we need to narrow our field of researc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9966ff"/>
                </a:solidFill>
                <a:latin typeface="Arial"/>
              </a:rPr>
              <a:t>What is a research questio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a sentence that specifies criteria for the researc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3000" spc="-1" strike="noStrike">
                <a:solidFill>
                  <a:srgbClr val="cc0066"/>
                </a:solidFill>
                <a:latin typeface="Arial"/>
              </a:rPr>
              <a:t>it is specif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it has a clear purp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3000" spc="-1" strike="noStrike">
                <a:solidFill>
                  <a:srgbClr val="ff9933"/>
                </a:solidFill>
                <a:latin typeface="Arial"/>
              </a:rPr>
              <a:t>it tells you what data you need to f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it can also tell you how to collect th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) </a:t>
            </a: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it can be broken down in many narrow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00ff"/>
                </a:solidFill>
                <a:latin typeface="Arial"/>
              </a:rPr>
              <a:t>What is a research hypothesi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a prediction of research fi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the predicted answer to the research ques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the explanation of the research ques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describes the expectations of the research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t doesn’t mean that the research is biased, on contrary the researcher should be able to declare that his/her hypothesis was wrong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0066"/>
                </a:solidFill>
                <a:latin typeface="Arial"/>
              </a:rPr>
              <a:t>Why the research question is important or not importan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Arial"/>
              </a:rPr>
              <a:t>Stay foc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Investigate the topic in deep to gain reliable, measurable and vali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ecide the best data collectio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Arial"/>
              </a:rPr>
              <a:t>Not get lost in a broad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6b75"/>
                </a:solidFill>
                <a:latin typeface="Arial"/>
              </a:rPr>
              <a:t>Not being super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on’t choose a specific question-related data collectio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fine what you want to find ou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k in pair to answer the 3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99"/>
                </a:solidFill>
                <a:latin typeface="Arial"/>
              </a:rPr>
              <a:t>Good vs. bad research ques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it import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es it matter to me personall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it clearly word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it be answer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it clear how this question could be investigat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it manageabl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it framed wel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6:26:51Z</dcterms:created>
  <dc:creator>user</dc:creator>
  <dc:description/>
  <dc:language>en-US</dc:language>
  <cp:lastModifiedBy>Lorenza Innocenti</cp:lastModifiedBy>
  <dcterms:modified xsi:type="dcterms:W3CDTF">2008-05-25T08:04:41Z</dcterms:modified>
  <cp:revision>34</cp:revision>
  <dc:subject/>
  <dc:title>Course: Fundamentals of Research</dc:title>
</cp:coreProperties>
</file>